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B0B-EE1B-4507-883A-626976D4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32F-B073-4DA3-B35D-841959E7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F61-1203-4120-AB2F-244B8834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14F-7966-4E1A-A32C-A3E32DDA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7D00-8E28-4D81-B639-FF30A474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11B3-F619-43FB-90D9-6595DE7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D8E8-61A2-4663-81E4-ECFB8C9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22B1-82EC-46CA-9EFF-42366AA1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7F48-5DED-4BB6-AFD5-5103A8FA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3DD-582E-4F4D-A5AE-08B6C9B2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6C8D-6B70-41EF-88B5-B6DADA3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754-C0F9-47B1-8537-AC20F092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1182-7F19-49FB-AA12-3ECA50F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183D-05A3-44A3-887F-3EE3E22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5F77-4A60-404A-8CF8-344B0EFF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759C-9260-4CCF-9757-07B24CA1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B77F-C5D8-45E6-B5DF-1CA28306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9494-2D73-4C02-8FB7-B762822E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AC9F-5BCE-4AA7-93BD-DEDEA154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1A91-FAA2-4D87-919A-D28434CB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5711-6EE0-485E-BDE5-33510BDE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BF3B-B794-4913-8AE8-D3F04AB8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B53-C049-40AC-91F8-BDFB6D07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6A3F-39CA-41B5-ACB2-C1FACE7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1A42-0FA0-4789-BE5C-268DA5E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937B-6A8B-4A7F-B54D-7142F2A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BEFD-82D0-44E0-8A03-D41FA00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C9E3-595B-4431-AB50-A98B7039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299C-DDCB-4331-B2B6-8B791135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8BF79-B7A6-480F-804E-100CB049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8D4-E9B9-499E-8285-910AB745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0F2-F6B0-49C2-92C2-51CCA97E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E5D-4330-458A-8600-981EFB35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392-448D-4718-9AB4-209DADC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8E5-5B54-41DF-AC9E-179B3C4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E06-8C0D-412D-9702-D0204A7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B840-6D86-425E-8F41-F4E4C5F7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37BD-0240-451F-B814-BD5DD4A7A73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127A-8E07-4527-A9BD-06ECCDD5362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5, Lesson 20, Part 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s 1-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ve Us A King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United Kingd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ges 194-20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3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I. Discourse 3 (6:1-8:15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20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Solomon defends his conclusions about God in control.  That only He can give meaning to our liv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208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. Solomon deals effectively with the objections “How can there be a God?” resulting from the inequalities of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4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V. Discourse 4 (8:16-12:14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gardless of intellect there will be mysteries we cannot fathom.  Take care that this does not diminish our enthusiasm for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life fervently, death will come, and there will be an account of our deed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ar the conclusion of the whole matter:  “Fear God, and keep His commandments; for this is the whole of man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sic Messag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uld be considered depressing without God in our liv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would agree there is a pessimistic outlook on life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omon affirms the pointlessness of life and the vanity of life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does not recommend life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is an alternative to the vanity of lif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sic Messag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cannot always count on achieving our earthly goa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ven those who obtain most of what life has to offer find it unfulfilling without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must consider the good blessings from God, i.e., the enjoyment of work, food, drink and yo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 will “bring every work into judgment, with every hidden thing, whether good or evil” (12:14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Under the sun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ntioned 34 times, referring to life here on earth as opposed to life after death (which is not the emphasis of Solomon’s writing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is the value of life on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am I he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should I pursue as my primary goal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 God plan our lives here on earth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anity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ntioned at least 25 times, used in different senses, meaning sorry, empty, worthless, or fleeting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- nothing has lasting meaning apart from G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Profit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hat lasting value can I achieve, will it follow me beyond the grave?  Can I eat more meals than the poor, can I wear two set of clothes at onc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the end comes, what will I have to show for my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word “profit” may reach the heart of Solomon’s message more than “vanity”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Wisdom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Wisdom here is called vanity in contrast to Proverbs where the “young” man is admonished to seek wisdo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radic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wisdom of Proverbs has the fear of God at its found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wisdom here is worldly and called va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wise man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ere is referred to as the well-educated, or has learned much about “life under the sun” - not the wisdom of Proverbs where the wise has learned to seek God for answe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n the well-educated man depend upon his education (knowledge) to bring him happines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foo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roughout the Wisdom Literature, the fool is describe as one who refuses to learn from his own experien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who chooses to reject God’s way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es not listen to the rebukes of the 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who is deaf and blind to adv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shown himself to be condemned  before God by his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e Hebrew “koheleth” one who calls the assembly or addresses the congreg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cclesiastes is the Greek word for what we call “preacher” or “teach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the preacher of this boo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efinition of Terms used in Ecclesiast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young man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is is the one called “the simple one” in the book of Prover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Ecclesiastes, he is simply the young man, not experienced in the ups and downs of “life under the sun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one that has not yet chosen the wrong p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now thy Creator in the days of thy youth…,” before it is too late  12:1-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ary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urse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fe is the greatest of van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ions come and g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 rises and 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ivers run into the sea, but the sea is not fu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aeaea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feless features of the earth endure, while mans life is a mere mist that appears for a little time and then drifts away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Also, James 4:14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ary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urse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to be completed lat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:1 - “son of David, King of Jerusale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:12 - “I the Preacher was King over Israel in Jerusale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:16 - “Lo, I have gotten me wisdom above all that were before me in Jerusale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this “preacher”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stions of Authorship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ten at what point in the preachers life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es the language fit the ti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would the preacher not attach his nam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this “preacher”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hor is most likely Solom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ten at the end of an experienced lif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d Solomon repent near the end of lif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hor is most likely Solom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milar events of Solomon’s life and things mentioned in Ecclesias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sdom 1:16 and 1 Kings 3: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eatness 2:4-10 and 1 Kings 4:20-3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cumulation of servants 2:7 and 1 Kings 9:2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uilder of many projects 2:4-6 and 1 Kings 6-7 &amp; 1 Kings 9:15-19,26-2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r’s statements concerning sin 7:20 and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 Kings 8:4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r set in order many Proverbs 12:9 and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 Kings 4:3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cclesias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hor is most likely Solom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25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milar thoughts and expressions with other books of Wisdom Litera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cc.5:15 also found in Job 1:2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cc.4:5 is found in Proverbs 6:10 &amp; 24: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y Proverbs found in Ecclesias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hor felt more qualified than anyone else simply because “he was who he wa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657600"/>
            <a:ext cx="3657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ccles. 5:15 (KJV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s he came forth of his mother's womb, naked shall he return to go as he came, and shall take nothing of his labour, which he may carry away in his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657600"/>
            <a:ext cx="434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ob 1:21 (KJV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d said, Naked came I out of my mother's womb, and naked shall I return thither: the Lord gave, and the Lord hath taken away; blessed be the name of the L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5105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ccles. 4:5 (KJV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fool foldeth his hands together, and eateth his own fle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51181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verbs 6:10 (KJV) Yet a little sleep, a little slumber, a little folding of the hands to sle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verbs 24:33 (KJV)  Yet a little sleep, a little slumber, a little folding of the hands to sle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1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 Discourse 1 (1:2-2:6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hing in life on earth can be depended upon for joy and fulfill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eaeaea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ility to enjoy life is a gift from G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 of Ecclesias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ldron’s 2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4  Discour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17680" indent="-5176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I. Discourse 2 (3:1-5:20)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9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. God has a vast purposeful plan into which man must f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9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. Man can understand enough of the plan to recognize God is in charge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43208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can never understand the entire plan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43208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et enough to know he must depend on Go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5T13:21:46Z</dcterms:created>
  <dc:creator> Pine Lane Church of Christ</dc:creator>
  <dc:description/>
  <dc:language>en-US</dc:language>
  <cp:lastModifiedBy>Frank D Vines</cp:lastModifiedBy>
  <dcterms:modified xsi:type="dcterms:W3CDTF">2005-09-23T15:25:19Z</dcterms:modified>
  <cp:revision>35</cp:revision>
  <dc:subject/>
  <dc:title>Ecclesiastes   </dc:title>
</cp:coreProperties>
</file>